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FFC-5160-415A-8F3B-799AD87F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DA4-C822-45E3-890B-67CC33DE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030-72E5-4BDB-B592-B249AC2A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FEE-9EAF-438D-A51F-FCDBCC14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BBA-4A00-46AE-B42E-1F251C4F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E1A-7C5D-46E2-9D20-3D1C2A2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AF4-2DAC-45DC-9078-82EBFF4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1C8-CE5E-477D-846C-216C8DB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0CD-5C45-490E-8024-B5A701E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DCE-BE23-4D8F-937F-8AA3CD2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0D1-F5E4-46B3-9F6C-8336FBE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BB2-35FB-4E35-8C2E-61933B76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5BC-DDEA-462E-9FC0-9F18E76A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ric-carle.com/bi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ic-carle.com/bi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8320" y="11426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520" y="3047760"/>
            <a:ext cx="358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Eric Car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219320"/>
            <a:ext cx="3520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216080" cy="160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320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2040" y="41911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029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in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n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133720"/>
            <a:ext cx="3276720" cy="378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42667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ric Carle’s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3000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ic Carle was first and illust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57600" cy="286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4572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we will read books that he didn’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write, but w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List of Books"/>
          <p:cNvPicPr/>
          <p:nvPr/>
        </p:nvPicPr>
        <p:blipFill>
          <a:blip r:embed="rId2"/>
          <a:stretch/>
        </p:blipFill>
        <p:spPr>
          <a:xfrm>
            <a:off x="4038480" y="5410080"/>
            <a:ext cx="984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 in Massachuse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8 years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Eric Car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352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9696"/>
                </a:solidFill>
                <a:latin typeface="Arial"/>
              </a:rPr>
              <a:t>Why does Eric Carle have a bear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9640" y="2508120"/>
            <a:ext cx="33829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ric Carl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eaks two languag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449520" cy="25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6386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and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7339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ric Carle’s </a:t>
            </a:r>
            <a:br>
              <a:rPr sz="72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hotoAlb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is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rtwork created for cover of second edition of The Very Hungry Caterpillar, pub. 1987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ery Hungary 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2160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5480" y="320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2040" y="41911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5029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e of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2133720"/>
            <a:ext cx="3276720" cy="378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is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124080" cy="252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49528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Want to Be My Fri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6:11:09Z</dcterms:created>
  <dc:creator>owner</dc:creator>
  <dc:description/>
  <dc:language>en-US</dc:language>
  <cp:lastModifiedBy>Sandra Roby</cp:lastModifiedBy>
  <dcterms:modified xsi:type="dcterms:W3CDTF">2008-01-01T17:44:33Z</dcterms:modified>
  <cp:revision>10</cp:revision>
  <dc:subject/>
  <dc:title>Eric Carle</dc:title>
</cp:coreProperties>
</file>